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A8CC-8E29-4D94-A34F-B05A61C2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reationrevolution.com/bacteria-share-metabolism-nanowir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website has the byline: “Transforming the world with the Truth of Creation”…it would be interesting to examine the kind of evidence presented to challenge Evolution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anmarkltd.tripod.com/taxonomy/id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microorganisms/monera/section1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orum.ableton.com/viewtopic.php?f=40&amp;t=1872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Antibiotic_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um.ox.ac.uk/thezone/animals/animalid/images/kingdom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nogallery.info/news/?id=8694&amp;slid=news&amp;type=a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eripatus.gen.nz/biology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cyanobacteria from: http://www.masterfile.com/stock-photography/image/861-03335947/Cyanobacteria-prokaryotes-once-called-Blue-Green-Algae.-LM-X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 coli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alaeos.org/index.php?title=Eubacteria&amp;oldid=28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AB8-0F07-423B-976A-D88B28F9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CAB-6566-487A-9AC3-E03CB430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F9E-3DA0-48C1-A5EF-4681830C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314-27C7-4BFC-8231-1E6B1460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B11-5BBF-45AD-AACD-CB35148E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CBB-9E01-4AE6-9010-93D46C69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E58-740D-4106-AE15-287932C2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117-5909-488E-B1FE-6552F964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DFF-08C8-4175-9005-81B77B58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4C9-8CF0-4BA4-9B90-33591D9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EAF-D127-4BB6-8116-347034B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F15-7487-47ED-88A2-3F09E61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BE8-43DE-46C7-A5FB-503AAB1AB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 &amp;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loop of DNA + plas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 more flagella, small hairlike p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cell walls with peptidogly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diverse doma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gen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40160" y="1523880"/>
            <a:ext cx="3738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iotics &amp;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880" y="143820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51000" y="1981080"/>
            <a:ext cx="484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75120" y="609480"/>
            <a:ext cx="299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upon a time, there were only 5 Kingdo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1880" y="1981080"/>
            <a:ext cx="52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 in 19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 Woese looked very closely at the Archae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termined that they weren’t just another taxon of the kingdom Mo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of cell membrane &amp; cell wall very different from Eu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istinct from Eubacteria &amp;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3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0" y="1447920"/>
            <a:ext cx="3984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therm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celled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ce of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roles in ecosystems &amp;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l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let fev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ptococcus pyo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ulis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botuli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x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illus anthra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r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25:00Z</dcterms:created>
  <dc:creator>rubina khan</dc:creator>
  <dc:description/>
  <dc:language>en-US</dc:language>
  <cp:lastModifiedBy>rubina khan</cp:lastModifiedBy>
  <dcterms:modified xsi:type="dcterms:W3CDTF">2015-02-12T11:36:42Z</dcterms:modified>
  <cp:revision>61</cp:revision>
  <dc:subject/>
  <dc:title>PowerPoint Presentation</dc:title>
</cp:coreProperties>
</file>